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6D7CC-D424-4DB0-BA6B-23CBCA0A2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2367-77A0-48CC-83A4-2EBBF1E9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76A14-0ED2-426B-A827-739981F01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3606-ADEC-45A2-B6CA-98A6EF508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1BF9D-45E1-4A0A-8800-F32F09AF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C034F-8FBE-44D4-94FD-140B4304D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A7E4A-7DA4-4A89-BF07-FBD81D19E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50BC7-4354-432A-99C7-43044463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A003-0803-411F-AD06-16A42916E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6A51-788B-4B6A-A548-E3BF8609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93FB7-5FAA-4235-AAA8-49AF1D665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F695-17B1-4674-AF08-DA72C7A90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2E29-BAE8-4615-BD82-55AF168FB1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32000" y="270792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p:nvPr/>
        </p:nvSpPr>
        <p:spPr>
          <a:xfrm>
            <a:off x="684360" y="3213000"/>
            <a:ext cx="770544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ecan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z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him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iologi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corpului omenesc, alcătuită în principal din elemente naturale, native, dar şi dintr-o îndelungată şlefuire civilizatoar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sufletească, rezultat aproape integral al eforturilor de înnobilare umană;</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etică a vastelor relaţii dintre oameni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ambientală a locului şi rezultatele muncii omeneşt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courile reflectării frumuseţii din realitat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pacităţile demiurgice ale omului de artă care, pornind de la lumea reală, făureşte o realitate nouă.[…]</a:t>
            </a:r>
            <a:endParaRPr b="0" lang="en-US" sz="1200" spc="-1" strike="noStrike">
              <a:solidFill>
                <a:srgbClr val="000000"/>
              </a:solidFill>
              <a:latin typeface="Arial"/>
            </a:endParaRPr>
          </a:p>
        </p:txBody>
      </p:sp>
    </p:spTree>
  </p:cSld>
  <p:transition spd="slow" advTm="5000">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spd="slow" advTm="5000">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spd="slow" advTm="5000">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9a3</cp:lastModifiedBy>
  <dcterms:modified xsi:type="dcterms:W3CDTF">2012-06-18T11:07:10Z</dcterms:modified>
  <cp:revision>41</cp:revision>
  <dc:subject/>
  <dc:title>SALARIUL</dc:title>
</cp:coreProperties>
</file>